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9AB-EE47-42EE-AA29-FE74FBBC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F49-1F8A-4B68-9F4F-34AA80EF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970-DF89-411E-9786-0CDC84DF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524-03A9-401A-AE35-029479FB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2EE-7DFF-4769-978D-23C6EACF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8E4-1002-49B0-8A68-CD9F1D87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437-D84A-48AF-881F-DB398D09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A14-63C0-4132-B2B6-8CCBF266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35B-2F0D-433F-B11F-50CFF116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67D-0D1F-465D-B81C-85B7FDC6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459-C7AF-4530-81D1-3EF44549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B35-ADBA-499F-A156-7DFCE4EC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7FCB-DFE1-4B47-814E-75988B3B6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Võrdusega predikaatarvut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rdusega predikaatarvutuses on lisatud eriline võrduspredikaat, mida tähistame tavalise võrdusmärgiga ‘=’. Seega kuulutatakse valemiteks ka lause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erm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kaatarvutuse tuletusreeglitele lisandub kaks uut reeg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oleks võimalik kasutada resolutsioonimeetodit võrdusega predikaatarvutuse jaoks, laiendame literaali mõistet atomaarvalemitega kujul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toome sisse kaks uut  reegl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9520" y="310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324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odulatsio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 L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adakse L-st, asendades selles mingi mitte-muutujast term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ühe esinemise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 j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gu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33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3352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ivne reflektsioo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gu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adud resolutsiooniarvutus on võrdusega predikaatloogika jaoks täielik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3623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9:58:56Z</dcterms:created>
  <dc:creator>Tiina Zingel</dc:creator>
  <dc:description/>
  <dc:language>en-US</dc:language>
  <cp:lastModifiedBy>Tiina Zingel</cp:lastModifiedBy>
  <dcterms:modified xsi:type="dcterms:W3CDTF">2006-04-24T10:00:17Z</dcterms:modified>
  <cp:revision>2</cp:revision>
  <dc:subject/>
  <dc:title>PowerPoint Presentation</dc:title>
</cp:coreProperties>
</file>